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A87789-954A-434F-A660-9503E4931ED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ultural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aningful learning and motivation – new information is linked to student experience + connectedness of information – information processing theory and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f with fragmented information and “skills learning” disconnected from meaningfu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llective perspective (Darling-Hammond, 19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teractions with families BUT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chool leadership and teachers all focussed on raising achievement (SE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- Newmann in Chicago – improving reading and mathematics performance – common approach across all teachers, pd to support goal of a common approach, agreement about strategies, collaboratio about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-5 opportunities to interact with a new idea (AL and n 1998) 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n-lingu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zano – 5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argest effect-size (0.75) – especially with ESL students – p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dividualised and programmed instruction – effect size 0.28-.0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ell-designed group work (but NOTE – Hohepa, McNaughton and Jenkins (1996) found less than 50% interactions to be in group situations – much use of dyadic – peer-peer; student-teacher; tuakana-teina) – p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 and N (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ole class learning opportunities most strongly and consistently related to long-term learning – i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ending to teacher demonstration and talk associated with instructiona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ending t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acher-pupil discuss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increases access for students with lower levels of litera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Learning goal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dvance organ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Low achieving students can attend to neatness, presentation, compliance, social and personal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L and N (1992) – many ‘on task’ behaviours of low achievers not facilitative of lear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louring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g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rawing hea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itting quietly rather than interrupting the teacher (BES 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hould not diminsh importance of low-key management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1400" y="2435400"/>
            <a:ext cx="288720" cy="647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elen Timperl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e on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feedback and scaffolding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(feed-forward – Bishop; poutama, co-construction – see BES 73-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Hattie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– feedback effect size 1.13 – Mazano (0.80) - reinforcing effort and providing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ffectiveness relates to impact on desired outcomes rather than values that may or may not relate to effectiveness – a sense of humour, a tough but fair task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utcomes relate to AOs, essential skills, values such as respect, tolerance, fairness, compassion; attitudes towards learning.  Note Mason Durie’s outcomes for Mao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live as Ma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actively participate as citizens of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enjoy good health and a high standard of living (BES p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quality of the learning environment generated by the teacher and the students explains up to 59% of the variance in student scores.  The school effect is approximately 5 – 21% of the variation in student learning outcomes (BES pp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most important factor here is the teacher (greater than class size, class composition).  Rivkin, Hanushek and Kain (2001) – attribute 7% of test score gains to differences in teachers (see Educational Researcher, 31, 9, 2002, p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hifts focus from what I taught to what student learned so in this sense it is positive.  Requires a judgement about value-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s in achievement may not be linked to teaching – pri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s in learning may not be linked to teaching – Time 1 to Time 2 – there amy be many other interventions (private tutoring) that have contributed to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gnores the nature and contribution of the student to enhanced or diminsihed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an narrow the focus on to what is easily meas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ocus shifts to the teacher – personal characteristics; particular techniques – overview summary; preferred pedagogy – discovery, direct instruction, constructiv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ne size does not fit all (Lortie – we see things through our own experience) + the impact of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search generalisations are ambivalent – role of rewards in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eneralisations are not necessarily applicable to individual teachers or situations – e.g. Mazano – identifying similarities and differences; summarising and notetaking, reinforcing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Jim Furyk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5A1-EA67-4C16-8373-A9DDA795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34F-6B67-4C0B-AC22-D7C2060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FDD-5F13-49FB-A3CD-29ED84AF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53B-A7F2-4F46-9C76-981DFF5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ABF-1CCA-4594-BAA0-FEA1AB9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AEA2-3F3F-41E3-AC53-F93AAA56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62DE-4227-4429-B3DB-607BE20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F429-22D7-49A2-A319-E05A1A7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AD5-8E7A-4F61-8560-35136EE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0FFC-836C-45DE-91E4-5A4889A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ECF-77C2-48E2-90B6-D158B64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1BD-C218-4824-A1EC-23BC419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54D1-24B2-4CEC-A18E-1BAB4A3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FC7-697C-4240-913F-8F1151B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165-10D0-4A21-93BC-6BD3556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A3B7-755B-46EE-B191-141AC374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7FE5-AA87-4A4A-B080-DCE1D15A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A0B-32EF-4CB4-8ED7-A864A621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625-6580-44B1-8635-C6DDBD9A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0EF-96A3-4579-ADBB-AC0EE4F1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561-30A5-4172-AE8B-EFB7C31F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FEC-3015-4352-98AC-A2F239E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B3B-969B-46D3-B00F-E58668D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5C8-97BF-4F21-B49B-C309BF3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6662-3AA3-46B9-AB53-BD87E8ECB971}" type="datetime">
              <a:rPr b="0" lang="en-AU" sz="14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0DB-1163-4D6B-B540-D1769CD145F0}" type="slidenum">
              <a:rPr b="0" lang="en-AU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8769-EBB4-4D87-9692-C7B52DDBFF95}" type="datetime">
              <a:rPr b="0" lang="en-AU" sz="1400" spc="-1" strike="noStrike">
                <a:solidFill>
                  <a:srgbClr val="000094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16A6-F4A9-442F-B81C-FB9D0AA1DC59}" type="slidenum">
              <a:rPr b="0" lang="en-A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.aitken@auckland.ac.n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urses.ed.asu.edu/berliner/readings/fuss/fuss.htm" TargetMode="External"/><Relationship Id="rId2" Type="http://schemas.openxmlformats.org/officeDocument/2006/relationships/hyperlink" Target="http://courses.ed.asu.edu/berliner/readings/fuss/fuss.htm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Tahoma"/>
              </a:rPr>
              <a:t>Effective Pedagogy </a:t>
            </a:r>
            <a:br>
              <a:rPr sz="4000"/>
            </a:br>
            <a:r>
              <a:rPr b="0" lang="en-NZ" sz="4000" spc="-1" strike="noStrike">
                <a:solidFill>
                  <a:srgbClr val="ffffcc"/>
                </a:solidFill>
                <a:latin typeface="Tahoma"/>
              </a:rPr>
              <a:t>It’s Just A Matter of Ti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632448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eme Ait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University of Auck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g.aitken@auckland.ac.n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material originally developed by Professor Viviane Robinson, School of Education, The University of Auck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Keynote Address - Team Solutions Professional Development Hui 30 January,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62320" y="457200"/>
          <a:ext cx="4724280" cy="70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724280" cy="70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ss of Time </a:t>
            </a:r>
            <a:br>
              <a:rPr sz="4400"/>
            </a:b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(based on </a:t>
            </a:r>
            <a:r>
              <a:rPr b="0" lang="en-NZ" sz="1400" spc="-1" strike="noStrike">
                <a:solidFill>
                  <a:srgbClr val="ffffcc"/>
                </a:solidFill>
                <a:latin typeface="Tahoma"/>
              </a:rPr>
              <a:t>Berliner, David (1990) “What’s All the Fuss About Instructional Time?” </a:t>
            </a:r>
            <a:r>
              <a:rPr b="0" lang="en-NZ" sz="14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NZ" sz="1400" spc="-1" strike="noStrike" u="sng">
                <a:solidFill>
                  <a:srgbClr val="ff3399"/>
                </a:solidFill>
                <a:uFillTx/>
                <a:latin typeface="Tahoma"/>
                <a:hlinkClick r:id="rId2"/>
              </a:rPr>
              <a:t>courses.ed.asu.edu/berliner/readings/fuss/fuss.htm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133720"/>
            <a:ext cx="6095880" cy="396216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666880"/>
            <a:ext cx="4419720" cy="281952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200400"/>
            <a:ext cx="2971800" cy="1752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1828800"/>
            <a:ext cx="6858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1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5000"/>
            <a:ext cx="2933640" cy="30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Schoo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located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200400"/>
            <a:ext cx="609480" cy="1752480"/>
          </a:xfrm>
          <a:prstGeom prst="rect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200400"/>
            <a:ext cx="685800" cy="1752480"/>
          </a:xfrm>
          <a:prstGeom prst="rect">
            <a:avLst/>
          </a:prstGeom>
          <a:solidFill>
            <a:srgbClr val="cc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4191120"/>
            <a:ext cx="1676520" cy="7617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200400"/>
            <a:ext cx="1676520" cy="9907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2708280"/>
            <a:ext cx="2590920" cy="33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In-class Loss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located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3429000"/>
            <a:ext cx="233064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 lack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ig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076640"/>
            <a:ext cx="2808360" cy="266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 lack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Eng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4292640"/>
            <a:ext cx="106668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w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 Suc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429000"/>
            <a:ext cx="114300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High Su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[ALT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992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62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ing Opportunity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400"/>
            </a:b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( Berliner, 1987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at part of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allocated time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in which students are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engage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with materials or activities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aligne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to the outcome measures that are being used and in which students experience a high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succes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ra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ective Teaching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400"/>
            </a:b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(after Berliner, 1987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aiting and transition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TIM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is minim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tivities are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ALIGNED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o important learning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udents are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ENGAGED</a:t>
            </a:r>
            <a:r>
              <a:rPr b="1" i="1" lang="en-NZ" sz="2800" spc="-1" strike="noStrike">
                <a:solidFill>
                  <a:srgbClr val="ffffff"/>
                </a:solidFill>
                <a:latin typeface="Tahoma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ehaviou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ntellect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udents are experiencing a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HIGH LEVEL OF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est Evidence Synthe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ystematic review of evid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inked to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ternational and N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en characteri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er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TL and B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92360" y="1989000"/>
          <a:ext cx="6702480" cy="4535640"/>
        </p:xfrm>
        <a:graphic>
          <a:graphicData uri="http://schemas.openxmlformats.org/drawingml/2006/table">
            <a:tbl>
              <a:tblPr/>
              <a:tblGrid>
                <a:gridCol w="1301760"/>
                <a:gridCol w="5400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portunities to Learn (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sation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 curriculum and school practices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ignment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content and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teaching intentions and assessment (10 – goal oriented assessmen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curriculum, task design and resources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developing a “collective perspective”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ag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linking learning to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responding to the way students learn in a curriculum area (4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vision of multiple task contexts (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moting meta-cognition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linking learning to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creating caring, inclusive communities (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moting a “learning orientation”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cces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scaffolding and feedback (8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provision of multiple task contexts (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a focus on student achievement (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promoting student self-regulation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goal-oriented assessment (1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rganis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 curriculum and school practices (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evaluate impacts on ALLOCATED TIME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reaks - timing, leng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ssemb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-curricular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content and cultural contexts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teaching intentions and assessment (10 – goal oriented assess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curriculum, task design and resources (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By developing a “collective perspective” (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bate outcomes (relative importance, big ide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ared strategies and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3573360"/>
            <a:ext cx="865080" cy="1224000"/>
          </a:xfrm>
          <a:custGeom>
            <a:avLst/>
            <a:gdLst>
              <a:gd name="textAreaLeft" fmla="*/ 115920 w 865080"/>
              <a:gd name="textAreaRight" fmla="*/ 749160 w 86508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4869000"/>
            <a:ext cx="63370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Let the main ideas which are introduced into a child‘s education be few and important and let them be thrown into every combination possible” (A.N. Whitehead)</a:t>
            </a: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ngagement - cogni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linking learning to cultural contexts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responding to the way students learn in a curriculum area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By provision of multiple task contexts 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promoting meta-cognition (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nse and recurrent a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n-linguistic represen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ocial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3284640"/>
            <a:ext cx="718920" cy="1439640"/>
          </a:xfrm>
          <a:custGeom>
            <a:avLst/>
            <a:gdLst>
              <a:gd name="textAreaLeft" fmla="*/ 96120 w 718920"/>
              <a:gd name="textAreaRight" fmla="*/ 622800 w 71892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ngagement - aff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linking learning to cultural contexts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creating caring, inclusive communities (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By promoting a “learning orientation” (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ke learning (academic) goals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lf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sk questions and make mis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141720"/>
            <a:ext cx="718920" cy="1439640"/>
          </a:xfrm>
          <a:custGeom>
            <a:avLst/>
            <a:gdLst>
              <a:gd name="textAreaLeft" fmla="*/ 96120 w 718920"/>
              <a:gd name="textAreaRight" fmla="*/ 622800 w 71892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wo common but flawed views of teaching effect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eaching effectiveness as provision of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opportunitie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ey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concept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associated with opportunitie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Links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etween these concepts and the </a:t>
            </a:r>
            <a:r>
              <a:rPr b="0" i="1" lang="en-NZ" sz="3200" spc="-1" strike="noStrike">
                <a:solidFill>
                  <a:srgbClr val="ffffff"/>
                </a:solidFill>
                <a:latin typeface="Tahoma"/>
              </a:rPr>
              <a:t>Best Evidence 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Suc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scaffolding and feedback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provision of multiple task contexts 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Through a focus on student achievement (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goal-oriented assessment (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Collect accurate and co-ordinated assessment information relevant to priority outcom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Implications for own and others</a:t>
            </a:r>
            <a:r>
              <a:rPr b="0" i="1" lang="en-NZ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 teac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Identify good practice across a group of teac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924280"/>
            <a:ext cx="718920" cy="1511280"/>
          </a:xfrm>
          <a:custGeom>
            <a:avLst/>
            <a:gdLst>
              <a:gd name="textAreaLeft" fmla="*/ 96120 w 718920"/>
              <a:gd name="textAreaRight" fmla="*/ 622800 w 71892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 summary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ive teaching is identified through the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esponse of </a:t>
            </a: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tivational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llec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ather than through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rategies and intentions of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1080" y="121896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ffective” “good” “teacher” “teaching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mpact on 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desired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ttitudes to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9% vari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most important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utcomes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Value ad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ink to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chievement – prior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earning – T1 to T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tudent’s con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asurable fo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Style Based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ersonal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edagogical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ifferent contex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lear research generali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eneralisations discriminate against individ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Comment on 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can teach however they like, as long as it is ethical and effective in imparting valuable learning, within applicable curriculum and resource constrain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criven, 19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1066320"/>
            <a:ext cx="68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ng Teaching Effectiv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be based on a preferred sty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ED to, but NOT JUDGED by, how much students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by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lity of th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ing opportunit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vided b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Quality Learning Opportun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EY Prin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REE Conce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52480" y="533520"/>
          <a:ext cx="6534360" cy="831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6534360" cy="83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5:45:30Z</dcterms:created>
  <dc:creator>School of Education</dc:creator>
  <dc:description/>
  <dc:language>en-US</dc:language>
  <cp:lastModifiedBy>John Pipe</cp:lastModifiedBy>
  <cp:lastPrinted>2002-03-31T19:16:34Z</cp:lastPrinted>
  <dcterms:modified xsi:type="dcterms:W3CDTF">2010-07-11T05:57:19Z</dcterms:modified>
  <cp:revision>82</cp:revision>
  <dc:subject/>
  <dc:title>Measuring for Excel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93836466</vt:r8>
  </property>
  <property fmtid="{D5CDD505-2E9C-101B-9397-08002B2CF9AE}" pid="3" name="_AuthorEmail">
    <vt:lpwstr>g.aitken@auckland.ac.nz</vt:lpwstr>
  </property>
  <property fmtid="{D5CDD505-2E9C-101B-9397-08002B2CF9AE}" pid="4" name="_AuthorEmailDisplayName">
    <vt:lpwstr>Graeme Aitken (FOA EDU)</vt:lpwstr>
  </property>
  <property fmtid="{D5CDD505-2E9C-101B-9397-08002B2CF9AE}" pid="5" name="_EmailSubject">
    <vt:lpwstr>TEAM Solutions AV/IT requirements</vt:lpwstr>
  </property>
</Properties>
</file>